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65E-7F65-46B5-ACC6-50B563C9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5B8-E0E1-493D-99F0-7DFC37F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8E5-EB1E-4907-A65B-8F34B2EF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AF9-8252-40B1-A54F-5DA5757A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AEC-F6D8-4C9E-9A06-EB4D33A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526-21B5-4198-8EC3-1F1D2FF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865-3D8B-45B1-A594-4AD8EA34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36B-15D5-4265-9CE7-F4C5C50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970-AC9E-4C8E-B72B-C9C5FB2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A52-A133-4D20-B1D0-65B93D5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FDF-0DC7-4219-B5D6-1B6D24B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404-0764-4DEB-8835-AE126A7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D3D9-1443-4713-9ABF-EB4473A76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00000" y="852480"/>
            <a:ext cx="73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47:36Z</dcterms:created>
  <dc:creator>Administrator</dc:creator>
  <dc:description/>
  <dc:language>en-US</dc:language>
  <cp:lastModifiedBy>Administrator</cp:lastModifiedBy>
  <dcterms:modified xsi:type="dcterms:W3CDTF">2011-09-21T12:53:35Z</dcterms:modified>
  <cp:revision>1</cp:revision>
  <dc:subject/>
  <dc:title>Slide 1</dc:title>
</cp:coreProperties>
</file>